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9.png" ContentType="image/png"/>
  <Override PartName="/ppt/media/image28.jpeg" ContentType="image/jpeg"/>
  <Override PartName="/ppt/media/image18.png" ContentType="image/png"/>
  <Override PartName="/ppt/media/image7.jpeg" ContentType="image/jpeg"/>
  <Override PartName="/ppt/media/image10.png" ContentType="image/png"/>
  <Override PartName="/ppt/media/image27.jpeg" ContentType="image/jpeg"/>
  <Override PartName="/ppt/media/image19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2.png" ContentType="image/png"/>
  <Override PartName="/ppt/media/image6.png" ContentType="image/png"/>
  <Override PartName="/ppt/media/image21.jpeg" ContentType="image/jpeg"/>
  <Override PartName="/ppt/media/image29.png" ContentType="image/png"/>
  <Override PartName="/ppt/media/image23.png" ContentType="image/png"/>
  <Override PartName="/ppt/media/image13.jpeg" ContentType="image/jpeg"/>
  <Override PartName="/ppt/media/image30.png" ContentType="image/png"/>
  <Override PartName="/ppt/media/image5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EB49-BE69-4124-A693-592C138FD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57FB-0B83-4CA0-8C06-72C960BB4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1EC4-0483-4751-8BBF-8FCF30DED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2E82-0864-4AD0-AD43-071FE4031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004F-3597-4220-8E49-43822EC45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973D-5407-41E8-B0A5-F727E82D4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5081-5EA2-4884-8E31-35689442E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8ED4-9E00-4038-9141-9E4504A2F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5645-C968-4F13-9F62-4EAB4B03E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FCBC-413C-47D8-9F80-33EBD3B0D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5850-6E87-4815-85C6-8964B69B5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4E08-31B6-4CDB-87F5-D664968D5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5DAD-80D5-490B-AC37-1D95A5820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E14F-405F-4DC0-8089-40BC2E088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971A-7905-48CF-96CE-B6463A560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A3DB-316A-4B35-9839-750C5833D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150D-08BB-43E1-AE27-9B484E41E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6911-5BAC-4297-821F-BAF65644A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E4A9-AEE4-4240-967A-0F1F15C40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D83E-8579-4403-A270-4CA9A5BBB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9DAA-CFED-4177-8CA6-DAAAA5A9A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61EF-171E-4853-9634-5A0E2A0B3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9E97-5BB4-4596-B908-3C7F88131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3EBC-8FD0-4C76-8A84-97128A7B2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2130-599B-46BE-A8F5-46AD48C52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A219-F083-418D-A37D-4B73EFA1C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865D-2FFD-43B0-BDA6-0785C77E0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7EBF-633E-47FC-B78C-FDE05D107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29B0-B090-4677-AC9B-AE84CA680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E6C5-6EB0-4A9F-ABFB-7339035D7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442F-51ED-49CC-BC06-B15925CC4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31CF-FA80-4AED-8B09-CA8BB5273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7C92-9339-4876-BC1B-8F13BFE1B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6FA-77A2-4ECB-A3EB-E4C19574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021D-BAAC-4B63-8FD8-845DAA75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F7A-7412-4F3A-8E6D-2E05446B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90A9-A34B-4B1F-9EE9-CA38FC3B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7C37-F8D2-45ED-A2B5-F409A828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412-DB8B-4B45-BD8C-8C496F25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54EF-9E54-49EE-B11E-06C6A1C7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388-3981-4F19-B18A-8CB9754C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4E30-5A1D-458D-9AFF-4EDB65D8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A46-8764-4139-97A5-7EAA3AD0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B9BB-8E02-470E-AD0B-363184F2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572-F088-474B-9DE7-B7E11AC9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8347-C263-4B00-863E-7DA2A54E5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ASK IS TO IDENTIFY TIME PERIOD AND/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 OF THE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Run this in "slide show" m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GerConfed1815"/>
          <p:cNvPicPr/>
          <p:nvPr/>
        </p:nvPicPr>
        <p:blipFill>
          <a:blip r:embed="rId1"/>
          <a:stretch/>
        </p:blipFill>
        <p:spPr>
          <a:xfrm>
            <a:off x="2962440" y="152280"/>
            <a:ext cx="3767040" cy="57200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895480" y="4419720"/>
            <a:ext cx="3886200" cy="152388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4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olyAlliance1815"/>
          <p:cNvPicPr/>
          <p:nvPr/>
        </p:nvPicPr>
        <p:blipFill>
          <a:blip r:embed="rId1"/>
          <a:stretch/>
        </p:blipFill>
        <p:spPr>
          <a:xfrm>
            <a:off x="2917800" y="76320"/>
            <a:ext cx="3932280" cy="5786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2895480" y="4419720"/>
            <a:ext cx="4038840" cy="152388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505320" y="4038480"/>
            <a:ext cx="761760" cy="152640"/>
          </a:xfrm>
          <a:prstGeom prst="rect">
            <a:avLst/>
          </a:prstGeom>
          <a:solidFill>
            <a:srgbClr val="f0e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KISH_16_372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NapsEmp"/>
          <p:cNvPicPr/>
          <p:nvPr/>
        </p:nvPicPr>
        <p:blipFill>
          <a:blip r:embed="rId1"/>
          <a:stretch/>
        </p:blipFill>
        <p:spPr>
          <a:xfrm>
            <a:off x="1971720" y="152280"/>
            <a:ext cx="4897440" cy="61722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2666880" y="4267080"/>
            <a:ext cx="1143000" cy="228600"/>
          </a:xfrm>
          <a:prstGeom prst="rect">
            <a:avLst/>
          </a:prstGeom>
          <a:solidFill>
            <a:srgbClr val="f0d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743200" y="4572000"/>
            <a:ext cx="1295280" cy="304920"/>
          </a:xfrm>
          <a:prstGeom prst="rect">
            <a:avLst/>
          </a:prstGeom>
          <a:solidFill>
            <a:srgbClr val="f0d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743200" y="4952880"/>
            <a:ext cx="1523880" cy="304920"/>
          </a:xfrm>
          <a:prstGeom prst="rect">
            <a:avLst/>
          </a:prstGeom>
          <a:solidFill>
            <a:srgbClr val="f0d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952880" y="4191120"/>
            <a:ext cx="1295640" cy="30456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905120" y="5486400"/>
            <a:ext cx="5029200" cy="91440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arisCommune"/>
          <p:cNvPicPr/>
          <p:nvPr/>
        </p:nvPicPr>
        <p:blipFill>
          <a:blip r:embed="rId1"/>
          <a:stretch/>
        </p:blipFill>
        <p:spPr>
          <a:xfrm>
            <a:off x="2316240" y="241200"/>
            <a:ext cx="4510080" cy="6375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971800" y="4495680"/>
            <a:ext cx="1143000" cy="381240"/>
          </a:xfrm>
          <a:prstGeom prst="rect">
            <a:avLst/>
          </a:prstGeom>
          <a:solidFill>
            <a:srgbClr val="d8e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5105520" y="4495680"/>
            <a:ext cx="1371600" cy="381240"/>
          </a:xfrm>
          <a:prstGeom prst="rect">
            <a:avLst/>
          </a:prstGeom>
          <a:solidFill>
            <a:srgbClr val="d8e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286000" y="5715000"/>
            <a:ext cx="4572000" cy="91440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PartitionPoland"/>
          <p:cNvPicPr/>
          <p:nvPr/>
        </p:nvPicPr>
        <p:blipFill>
          <a:blip r:embed="rId1"/>
          <a:stretch/>
        </p:blipFill>
        <p:spPr>
          <a:xfrm>
            <a:off x="2876400" y="420840"/>
            <a:ext cx="3389400" cy="60163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2743200" y="380880"/>
            <a:ext cx="1295280" cy="167652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038480" y="380880"/>
            <a:ext cx="1295640" cy="167652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334120" y="380880"/>
            <a:ext cx="1295280" cy="167652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743200" y="6095880"/>
            <a:ext cx="3581280" cy="38124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PopGrwth1800-50"/>
          <p:cNvPicPr/>
          <p:nvPr/>
        </p:nvPicPr>
        <p:blipFill>
          <a:blip r:embed="rId1"/>
          <a:stretch/>
        </p:blipFill>
        <p:spPr>
          <a:xfrm>
            <a:off x="2428920" y="0"/>
            <a:ext cx="4611600" cy="64008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2590920" y="457200"/>
            <a:ext cx="990360" cy="137160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362320" y="5181480"/>
            <a:ext cx="4724280" cy="121932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QuadAlliance1815"/>
          <p:cNvPicPr/>
          <p:nvPr/>
        </p:nvPicPr>
        <p:blipFill>
          <a:blip r:embed="rId1"/>
          <a:stretch/>
        </p:blipFill>
        <p:spPr>
          <a:xfrm>
            <a:off x="2451240" y="0"/>
            <a:ext cx="4446360" cy="6553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3124080" y="4495680"/>
            <a:ext cx="1067040" cy="228600"/>
          </a:xfrm>
          <a:prstGeom prst="rect">
            <a:avLst/>
          </a:prstGeom>
          <a:solidFill>
            <a:srgbClr val="f0d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438280" y="5029200"/>
            <a:ext cx="4496040" cy="160020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Revs30_48"/>
          <p:cNvPicPr/>
          <p:nvPr/>
        </p:nvPicPr>
        <p:blipFill>
          <a:blip r:embed="rId1"/>
          <a:stretch/>
        </p:blipFill>
        <p:spPr>
          <a:xfrm>
            <a:off x="990720" y="307800"/>
            <a:ext cx="7238880" cy="6309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752480" y="685800"/>
            <a:ext cx="1143000" cy="304920"/>
          </a:xfrm>
          <a:prstGeom prst="rect">
            <a:avLst/>
          </a:prstGeom>
          <a:solidFill>
            <a:srgbClr val="afda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752480" y="990720"/>
            <a:ext cx="1143000" cy="380880"/>
          </a:xfrm>
          <a:prstGeom prst="rect">
            <a:avLst/>
          </a:prstGeom>
          <a:solidFill>
            <a:srgbClr val="afda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14400" y="5410080"/>
            <a:ext cx="7391520" cy="129564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RussCW"/>
          <p:cNvPicPr/>
          <p:nvPr/>
        </p:nvPicPr>
        <p:blipFill>
          <a:blip r:embed="rId1"/>
          <a:stretch/>
        </p:blipFill>
        <p:spPr>
          <a:xfrm>
            <a:off x="0" y="333360"/>
            <a:ext cx="8991720" cy="6087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5105520" y="4495680"/>
            <a:ext cx="1066680" cy="304920"/>
          </a:xfrm>
          <a:prstGeom prst="rect">
            <a:avLst/>
          </a:prstGeom>
          <a:solidFill>
            <a:srgbClr val="e3d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105520" y="4800600"/>
            <a:ext cx="1066680" cy="304920"/>
          </a:xfrm>
          <a:prstGeom prst="rect">
            <a:avLst/>
          </a:prstGeom>
          <a:solidFill>
            <a:srgbClr val="e3d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6553080" y="4495680"/>
            <a:ext cx="1067040" cy="304920"/>
          </a:xfrm>
          <a:prstGeom prst="rect">
            <a:avLst/>
          </a:prstGeom>
          <a:solidFill>
            <a:srgbClr val="e3d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553080" y="4800600"/>
            <a:ext cx="1295640" cy="304920"/>
          </a:xfrm>
          <a:prstGeom prst="rect">
            <a:avLst/>
          </a:prstGeom>
          <a:solidFill>
            <a:srgbClr val="e3d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5410080"/>
            <a:ext cx="9067680" cy="106704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26" descr="Alliances"/>
          <p:cNvPicPr/>
          <p:nvPr/>
        </p:nvPicPr>
        <p:blipFill>
          <a:blip r:embed="rId1"/>
          <a:stretch/>
        </p:blipFill>
        <p:spPr>
          <a:xfrm>
            <a:off x="533520" y="152280"/>
            <a:ext cx="8157960" cy="5407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27"/>
          <p:cNvSpPr/>
          <p:nvPr/>
        </p:nvSpPr>
        <p:spPr>
          <a:xfrm>
            <a:off x="685800" y="4952880"/>
            <a:ext cx="7848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28"/>
          <p:cNvSpPr/>
          <p:nvPr/>
        </p:nvSpPr>
        <p:spPr>
          <a:xfrm>
            <a:off x="1219320" y="45720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29"/>
          <p:cNvSpPr/>
          <p:nvPr/>
        </p:nvSpPr>
        <p:spPr>
          <a:xfrm>
            <a:off x="1219320" y="76212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30"/>
          <p:cNvSpPr/>
          <p:nvPr/>
        </p:nvSpPr>
        <p:spPr>
          <a:xfrm>
            <a:off x="1219320" y="106668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RussSerfs"/>
          <p:cNvPicPr/>
          <p:nvPr/>
        </p:nvPicPr>
        <p:blipFill>
          <a:blip r:embed="rId1"/>
          <a:stretch/>
        </p:blipFill>
        <p:spPr>
          <a:xfrm>
            <a:off x="2365200" y="455760"/>
            <a:ext cx="4411800" cy="59450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2286000" y="5715000"/>
            <a:ext cx="4572000" cy="76212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8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3276720" y="990720"/>
            <a:ext cx="1600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105520" y="838080"/>
            <a:ext cx="259056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1610relig"/>
          <p:cNvPicPr/>
          <p:nvPr/>
        </p:nvPicPr>
        <p:blipFill>
          <a:blip r:embed="rId1"/>
          <a:stretch/>
        </p:blipFill>
        <p:spPr>
          <a:xfrm>
            <a:off x="536400" y="241200"/>
            <a:ext cx="8069400" cy="63756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6629400" y="51814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1700big"/>
          <p:cNvPicPr/>
          <p:nvPr/>
        </p:nvPicPr>
        <p:blipFill>
          <a:blip r:embed="rId1"/>
          <a:stretch/>
        </p:blipFill>
        <p:spPr>
          <a:xfrm>
            <a:off x="0" y="0"/>
            <a:ext cx="8610480" cy="6872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6708600" y="62485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 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baltic"/>
          <p:cNvPicPr/>
          <p:nvPr/>
        </p:nvPicPr>
        <p:blipFill>
          <a:blip r:embed="rId1"/>
          <a:stretch/>
        </p:blipFill>
        <p:spPr>
          <a:xfrm>
            <a:off x="1273320" y="-914400"/>
            <a:ext cx="7184880" cy="92962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2286000" y="76320"/>
            <a:ext cx="182880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4648320" y="1905120"/>
            <a:ext cx="114300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4952880" y="3048120"/>
            <a:ext cx="106704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0"/>
          <p:cNvSpPr/>
          <p:nvPr/>
        </p:nvSpPr>
        <p:spPr>
          <a:xfrm>
            <a:off x="4114800" y="4038480"/>
            <a:ext cx="114300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h18_c"/>
          <p:cNvPicPr/>
          <p:nvPr/>
        </p:nvPicPr>
        <p:blipFill>
          <a:blip r:embed="rId1"/>
          <a:stretch/>
        </p:blipFill>
        <p:spPr>
          <a:xfrm>
            <a:off x="-457200" y="-457200"/>
            <a:ext cx="9601200" cy="73612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1828800" y="6095880"/>
            <a:ext cx="5257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1900big"/>
          <p:cNvPicPr/>
          <p:nvPr/>
        </p:nvPicPr>
        <p:blipFill>
          <a:blip r:embed="rId1"/>
          <a:stretch/>
        </p:blipFill>
        <p:spPr>
          <a:xfrm>
            <a:off x="609480" y="20520"/>
            <a:ext cx="8568000" cy="68374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3965400" y="617220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 1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KISH_17_399"/>
          <p:cNvPicPr/>
          <p:nvPr/>
        </p:nvPicPr>
        <p:blipFill>
          <a:blip r:embed="rId1"/>
          <a:stretch/>
        </p:blipFill>
        <p:spPr>
          <a:xfrm>
            <a:off x="1976400" y="152280"/>
            <a:ext cx="5311800" cy="6705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1905120" y="6019920"/>
            <a:ext cx="5410080" cy="83808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map36wiieve"/>
          <p:cNvPicPr/>
          <p:nvPr/>
        </p:nvPicPr>
        <p:blipFill>
          <a:blip r:embed="rId1"/>
          <a:stretch/>
        </p:blipFill>
        <p:spPr>
          <a:xfrm>
            <a:off x="533520" y="450720"/>
            <a:ext cx="7848360" cy="57978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7162920" y="609480"/>
            <a:ext cx="9903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2667960" y="624852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: Eve of WW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map38postcw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5121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2805480" y="563580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: Post Cold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BrManuf"/>
          <p:cNvPicPr/>
          <p:nvPr/>
        </p:nvPicPr>
        <p:blipFill>
          <a:blip r:embed="rId1"/>
          <a:stretch/>
        </p:blipFill>
        <p:spPr>
          <a:xfrm>
            <a:off x="2365200" y="455760"/>
            <a:ext cx="4411800" cy="59450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2971800" y="91440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666880" y="5867280"/>
            <a:ext cx="3886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14m0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4114800" y="5943600"/>
            <a:ext cx="1676520" cy="609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14m02"/>
          <p:cNvPicPr/>
          <p:nvPr/>
        </p:nvPicPr>
        <p:blipFill>
          <a:blip r:embed="rId1"/>
          <a:stretch/>
        </p:blipFill>
        <p:spPr>
          <a:xfrm>
            <a:off x="-76320" y="122400"/>
            <a:ext cx="9404640" cy="6984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228600" y="304920"/>
            <a:ext cx="15238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15m01"/>
          <p:cNvPicPr/>
          <p:nvPr/>
        </p:nvPicPr>
        <p:blipFill>
          <a:blip r:embed="rId1"/>
          <a:stretch/>
        </p:blipFill>
        <p:spPr>
          <a:xfrm>
            <a:off x="4356000" y="0"/>
            <a:ext cx="48672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304920" y="2590920"/>
            <a:ext cx="4114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therla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78–16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495680" y="152280"/>
            <a:ext cx="2743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15m02"/>
          <p:cNvPicPr/>
          <p:nvPr/>
        </p:nvPicPr>
        <p:blipFill>
          <a:blip r:embed="rId1"/>
          <a:stretch/>
        </p:blipFill>
        <p:spPr>
          <a:xfrm>
            <a:off x="533520" y="1022400"/>
            <a:ext cx="7924680" cy="58341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3"/>
          <p:cNvSpPr/>
          <p:nvPr/>
        </p:nvSpPr>
        <p:spPr>
          <a:xfrm>
            <a:off x="1676520" y="3505320"/>
            <a:ext cx="3045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 in 16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olonies"/>
          <p:cNvPicPr/>
          <p:nvPr/>
        </p:nvPicPr>
        <p:blipFill>
          <a:blip r:embed="rId1"/>
          <a:stretch/>
        </p:blipFill>
        <p:spPr>
          <a:xfrm>
            <a:off x="609480" y="168120"/>
            <a:ext cx="7772400" cy="56548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2666880" y="4114800"/>
            <a:ext cx="3733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523880" y="441972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523880" y="464832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819520" y="4419720"/>
            <a:ext cx="685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2819520" y="4648320"/>
            <a:ext cx="685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4191120" y="4648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4191120" y="44197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5486400" y="4419720"/>
            <a:ext cx="762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6781680" y="4419720"/>
            <a:ext cx="762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5486400" y="4648320"/>
            <a:ext cx="762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762120" y="5257800"/>
            <a:ext cx="7467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rimean"/>
          <p:cNvPicPr/>
          <p:nvPr/>
        </p:nvPicPr>
        <p:blipFill>
          <a:blip r:embed="rId1"/>
          <a:stretch/>
        </p:blipFill>
        <p:spPr>
          <a:xfrm>
            <a:off x="2362320" y="457200"/>
            <a:ext cx="4411440" cy="59450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4648320" y="609480"/>
            <a:ext cx="685800" cy="304920"/>
          </a:xfrm>
          <a:prstGeom prst="rect">
            <a:avLst/>
          </a:prstGeom>
          <a:solidFill>
            <a:srgbClr val="f2a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362320" y="5791320"/>
            <a:ext cx="44193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E Europe1990"/>
          <p:cNvPicPr/>
          <p:nvPr/>
        </p:nvPicPr>
        <p:blipFill>
          <a:blip r:embed="rId1"/>
          <a:stretch/>
        </p:blipFill>
        <p:spPr>
          <a:xfrm>
            <a:off x="1227240" y="1268280"/>
            <a:ext cx="6689520" cy="4321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1371600" y="5029200"/>
            <a:ext cx="6400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447920" y="1371600"/>
            <a:ext cx="17524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4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EUR1815"/>
          <p:cNvPicPr/>
          <p:nvPr/>
        </p:nvPicPr>
        <p:blipFill>
          <a:blip r:embed="rId1"/>
          <a:stretch/>
        </p:blipFill>
        <p:spPr>
          <a:xfrm>
            <a:off x="1285920" y="631800"/>
            <a:ext cx="6572160" cy="55944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1371600" y="5715000"/>
            <a:ext cx="6477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ExpanPruss"/>
          <p:cNvPicPr/>
          <p:nvPr/>
        </p:nvPicPr>
        <p:blipFill>
          <a:blip r:embed="rId1"/>
          <a:stretch/>
        </p:blipFill>
        <p:spPr>
          <a:xfrm>
            <a:off x="-4680" y="612720"/>
            <a:ext cx="9155160" cy="56307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152280" y="5867280"/>
            <a:ext cx="43434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33520" y="68580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33520" y="106668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33520" y="1371600"/>
            <a:ext cx="1143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533520" y="1752480"/>
            <a:ext cx="1143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533520" y="2133720"/>
            <a:ext cx="12189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FrRevBound"/>
          <p:cNvPicPr/>
          <p:nvPr/>
        </p:nvPicPr>
        <p:blipFill>
          <a:blip r:embed="rId1"/>
          <a:stretch/>
        </p:blipFill>
        <p:spPr>
          <a:xfrm>
            <a:off x="2625840" y="152280"/>
            <a:ext cx="3892320" cy="6553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3200400" y="4267080"/>
            <a:ext cx="9144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200400" y="4572000"/>
            <a:ext cx="10666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200400" y="4800600"/>
            <a:ext cx="1143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200400" y="5105520"/>
            <a:ext cx="12193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5029200" y="441972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590920" y="5562720"/>
            <a:ext cx="3962160" cy="114300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4:39:21Z</dcterms:created>
  <dc:creator>Susan Gregory</dc:creator>
  <dc:description/>
  <dc:language>en-US</dc:language>
  <cp:lastModifiedBy>Sue Gregory</cp:lastModifiedBy>
  <dcterms:modified xsi:type="dcterms:W3CDTF">2008-05-08T05:55:45Z</dcterms:modified>
  <cp:revision>85</cp:revision>
  <dc:subject/>
  <dc:title>EURO MAPS</dc:title>
</cp:coreProperties>
</file>